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8F33-CEF0-4007-AD58-010D7E17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9BBC-B294-4BA3-892F-B93DD11A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60F0-C0D0-45D5-9C32-43F1C0A58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013A-0F67-4E1A-9435-84F31EAE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A645-6E0A-432C-82E2-F3D45F65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4F04-95B1-42CE-B084-98A30409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67EE-6868-4F81-94A9-05CD3EA0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FB46-6F73-497A-AFE3-20A79AE7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6A84-19ED-4213-89EC-6F404F9A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4A45-91AC-4006-A962-B7082DF4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9AED-289E-4B65-91DF-69725A0D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6373-2A33-48A8-B601-D0F37584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F34E-2DEB-4DFE-AC46-B302A40B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7243-4B2B-4E6C-B3FC-48BAA002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EFA1-9B4D-49B4-B1C3-9D59567A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1FF9-BB98-4FB7-85B7-741F427A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A277-68D1-4E86-82E1-BA5AEBBC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7C59-A7AF-482A-BDBA-35DA7083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1746-6B94-431A-A316-91D0AE1E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FF2A-2282-4B29-8523-F8335115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6EFF-2BB7-4B33-88D9-CC625C91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0C08-F682-44AC-9CCD-91D9005D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7788-D5C5-4A40-8961-CEDC423B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CB7C-672E-40F3-BD4A-72F06706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1E1D-B59E-4685-9D88-2A70CC49E3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49A2-2429-4FA7-849D-D15DE1DA732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3573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Советы родителям будущих первоклассников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держивайте в ребенке его стремление стать школьни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ша искренняя заинтересованность в его школьных делах и заботах, серьезное отношение к его первым достижениям и возможным трудностям помогут первокласснику подтвердить значимость его нового положения и деятель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судите с ребенком те правила и нормы, с которыми он встретится школ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ясните их необходимость и целесообраз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999720"/>
            <a:ext cx="5043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ш ребенок придет в школу, чтобы учитьс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гда человек учится, у него может что-то не сразу получиться, это естествен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бенок имеет право на ошиб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6" descr="images 2"/>
          <p:cNvPicPr/>
          <p:nvPr/>
        </p:nvPicPr>
        <p:blipFill>
          <a:blip r:embed="rId1"/>
          <a:stretch/>
        </p:blipFill>
        <p:spPr>
          <a:xfrm>
            <a:off x="5715000" y="25002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6840" y="2133720"/>
            <a:ext cx="45435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тавьте вместе с будущим первоклассником распорядок дня, следите за его соблюдени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6" descr="3"/>
          <p:cNvPicPr/>
          <p:nvPr/>
        </p:nvPicPr>
        <p:blipFill>
          <a:blip r:embed="rId1"/>
          <a:stretch/>
        </p:blipFill>
        <p:spPr>
          <a:xfrm>
            <a:off x="5238720" y="2786040"/>
            <a:ext cx="2857680" cy="2152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132000" y="856800"/>
            <a:ext cx="60120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пропускайте трудности, возможные у ребенка на начальном этапе овладения учебными навык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у будущего первоклассника, например, есть  логопедические проблемы, постарайтесь справиться с ними до школы или на первом году обу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6" descr="images"/>
          <p:cNvPicPr/>
          <p:nvPr/>
        </p:nvPicPr>
        <p:blipFill>
          <a:blip r:embed="rId1"/>
          <a:stretch/>
        </p:blipFill>
        <p:spPr>
          <a:xfrm>
            <a:off x="324000" y="2997360"/>
            <a:ext cx="2857320" cy="1485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-360" y="428760"/>
            <a:ext cx="6119640" cy="56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держите будущего первоклассника в его желании добиться успех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аждой работе обязательно найдите, за что можно было его похвали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мните, похвала  и эмоциональная поддерж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 «Молодец!», «Ты так хорошо справился!») способны заметно повысить интеллектуальные достижения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6" descr="5"/>
          <p:cNvPicPr/>
          <p:nvPr/>
        </p:nvPicPr>
        <p:blipFill>
          <a:blip r:embed="rId1"/>
          <a:stretch/>
        </p:blipFill>
        <p:spPr>
          <a:xfrm>
            <a:off x="5940360" y="35002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851280" y="1844280"/>
            <a:ext cx="4835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вас что-то будет беспокоить в поведении ребенка, его учебных делах, не стесняйтесь обращаться за советом и консультацией к учителю или школьному психоло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6" descr="63laundes_kak_vlubit"/>
          <p:cNvPicPr/>
          <p:nvPr/>
        </p:nvPicPr>
        <p:blipFill>
          <a:blip r:embed="rId1"/>
          <a:stretch/>
        </p:blipFill>
        <p:spPr>
          <a:xfrm>
            <a:off x="755640" y="2421000"/>
            <a:ext cx="2857680" cy="18860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142880" y="1285560"/>
            <a:ext cx="45435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поступлением в школу в жизни вашего ребенка появится человек более авторитетный, чем в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учите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важайте мнение ребенка о своем педагог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6" descr="7"/>
          <p:cNvPicPr/>
          <p:nvPr/>
        </p:nvPicPr>
        <p:blipFill>
          <a:blip r:embed="rId1"/>
          <a:stretch/>
        </p:blipFill>
        <p:spPr>
          <a:xfrm>
            <a:off x="1047600" y="2509920"/>
            <a:ext cx="2857680" cy="27050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780000" y="571320"/>
            <a:ext cx="5364000" cy="71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е –это нелегкий и ответственный тру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тупление в школу существенно меняет жизнь ребенка, но не должно лишать её многообразия, радости, иг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первоклассника должно оставаться достаточно времени для игровых занят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6" descr="images 1"/>
          <p:cNvPicPr/>
          <p:nvPr/>
        </p:nvPicPr>
        <p:blipFill>
          <a:blip r:embed="rId1"/>
          <a:stretch/>
        </p:blipFill>
        <p:spPr>
          <a:xfrm>
            <a:off x="755640" y="2637000"/>
            <a:ext cx="2857680" cy="1914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08:09:45Z</dcterms:created>
  <dc:creator>СОШ №17</dc:creator>
  <dc:description/>
  <dc:language>en-US</dc:language>
  <cp:lastModifiedBy>Ирина</cp:lastModifiedBy>
  <dcterms:modified xsi:type="dcterms:W3CDTF">2010-04-23T13:45:24Z</dcterms:modified>
  <cp:revision>8</cp:revision>
  <dc:subject/>
  <dc:title>Советы родителям будущих первоклассников.</dc:title>
</cp:coreProperties>
</file>